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tomy</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omy (Greek anatome, “dissection”) is a branch of natural science dealing with the structural organization of living things. It is an old science, having its beginnings in prehistoric times. For centuries anatomical knowledge consisted largely of observations of dissected plants and animals. The proper understanding of structure, however, implies knowledge of function in the living organism. Anatomy is therefore almost inseparable from physiology, which is sometimes called functional anatomy. As one of the basic life sciences, anatomy is closely related to medicine and to other branches of biolog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quie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m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t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utin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ra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natom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proper understanding of structure im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study of anatomy be divid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ubdivisions of anatom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gross anatomy invol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as knowledge of the body acquired in the pa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gave anatomy a considerable factual basis for the first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modern anatomy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 the most important factor in the following development of anatomical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new technologies in the 20</a:t>
            </a:r>
            <a:r>
              <a:rPr b="0" lang="en-US" sz="2000" spc="-1" strike="noStrike" baseline="30000">
                <a:solidFill>
                  <a:srgbClr val="000000"/>
                </a:solidFill>
                <a:latin typeface="Arial"/>
              </a:rPr>
              <a:t>th</a:t>
            </a:r>
            <a:r>
              <a:rPr b="0" lang="en-US" sz="2000" spc="-1" strike="noStrike">
                <a:solidFill>
                  <a:srgbClr val="000000"/>
                </a:solidFill>
                <a:latin typeface="Arial"/>
              </a:rPr>
              <a:t> century enabl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are opposites of these word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mp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eg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aq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verbs from the following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div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min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ul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s can be derived from the following:</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er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tatements according to the text:</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ne of the basic life sciences, anatomy is closely relat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omy can be divided according t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l anatomy is the study o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anatomists based their knowledge 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of compound microscopes wa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ctron microscope stimulate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omy as a scienc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divisions of anatom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06T22:25:29Z</dcterms:modified>
  <cp:revision>24</cp:revision>
  <dc:subject/>
  <dc:title>Slide 1</dc:title>
</cp:coreProperties>
</file>